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Ряд 1</c:v>
                </c:pt>
              </c:strCache>
            </c:strRef>
          </c:tx>
          <c:spPr>
            <a:solidFill>
              <a:srgbClr val="bbe0e3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be0e3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bbe0e3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bbe0e3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bbe0e3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.00308641975308642"/>
                  <c:y val="-0.230094678193348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8,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308641975308642"/>
                  <c:y val="-0.227288645532454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62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,1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0154320987654321"/>
                  <c:y val="-0.263767070124082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63,6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-0.00617283950617284"/>
                  <c:y val="-0.283409298750343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70,8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2010 год</c:v>
                </c:pt>
                <c:pt idx="1">
                  <c:v>2011 год</c:v>
                </c:pt>
                <c:pt idx="2">
                  <c:v>2012 год</c:v>
                </c:pt>
                <c:pt idx="3">
                  <c:v>2013 го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58.3</c:v>
                </c:pt>
                <c:pt idx="1">
                  <c:v>62.1</c:v>
                </c:pt>
                <c:pt idx="2">
                  <c:v>63.6</c:v>
                </c:pt>
                <c:pt idx="3">
                  <c:v>70.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Ряд 2</c:v>
                </c:pt>
              </c:strCache>
            </c:strRef>
          </c:tx>
          <c:spPr>
            <a:solidFill>
              <a:srgbClr val="333399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10 год</c:v>
                </c:pt>
                <c:pt idx="1">
                  <c:v>2011 год</c:v>
                </c:pt>
                <c:pt idx="2">
                  <c:v>2012 год</c:v>
                </c:pt>
                <c:pt idx="3">
                  <c:v>2013 год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Ряд 3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10 год</c:v>
                </c:pt>
                <c:pt idx="1">
                  <c:v>2011 год</c:v>
                </c:pt>
                <c:pt idx="2">
                  <c:v>2012 год</c:v>
                </c:pt>
                <c:pt idx="3">
                  <c:v>2013 год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</c:numCache>
            </c:numRef>
          </c:val>
        </c:ser>
        <c:gapWidth val="150"/>
        <c:shape val="box"/>
        <c:axId val="25309923"/>
        <c:axId val="94332291"/>
        <c:axId val="0"/>
      </c:bar3DChart>
      <c:catAx>
        <c:axId val="25309923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32291"/>
        <c:crosses val="autoZero"/>
        <c:auto val="1"/>
        <c:lblAlgn val="ctr"/>
        <c:lblOffset val="100"/>
        <c:noMultiLvlLbl val="0"/>
      </c:catAx>
      <c:valAx>
        <c:axId val="9433229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09923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5A185A-C5A9-4747-8D1E-52A36389B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5426E7-B4DC-40E9-AF64-623C7F6ABF94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378957-3AEF-4D9D-8E5D-8479E46543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29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CED070-57CA-46B4-B540-D795603000F8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AF0E6E-3139-4A9B-9B56-DF0BA9C777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31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AF67A3-47E0-40E9-9553-5706B7CD0E17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4F8146-0FB3-4923-A4A1-EDF8BD7160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33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70375B-99AC-4E55-BA06-46BFE24CDFEE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4EED6F-BBFB-4BFA-A83B-85D112C820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35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34B359-2ECB-4EC4-87E5-5027932C92DB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6C9C7C-E2A1-48B4-9817-C249589FB33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37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34C9F4-1D53-4C7F-AB99-AE6105C021CC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D2BFE2-6861-4AFF-A50C-C1867063162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A543C5-2779-4B59-BAB2-D15D1977C543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FEAB49-E366-4C10-948A-3C15B77601C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41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0C956E-C810-4BD0-B86A-7B1688D95F7B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9ABC69-1CBB-4911-97A4-D0854DF968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43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EECB43-556A-4CC1-A738-253E3AC64466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982854-995A-4BEC-8672-F1A6D8EF930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45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2713AA-1375-45A6-8A52-F2117DD31003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BC09DB-C772-416E-865B-90CB251DC7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FD9CF9-308D-4D3F-9531-E6666A1354F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43F6C3-039A-42AB-B2EA-B5273B7A02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053732-B13C-4AF1-B4F9-64C1F38DB2A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DE0ED9-91D5-4B4E-98FC-D91B35027250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956BC6-2B79-44EF-8220-C6D80B63878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8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D04525-018F-40C2-8D61-459C38FA2882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2DBCE5-08AE-4E7E-B418-04487EE161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20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24F420-336F-4B5E-B636-36DD80C2F6CD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C786C5-E255-4153-A2CF-13787C4F932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22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4F5FD2-AA44-4F30-8607-4DB96FF37477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8B0C55-896C-4622-AA18-158AC84E24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24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6F9FD8-2821-4CB1-8BB3-97AAB7661F86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2DE49F-1FAD-4D4C-ACD7-EC01DA2C64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dt" idx="26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CB3847-0F23-4942-B72A-3FF28F805660}" type="datetime1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27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71B45E-5FA7-4652-A860-289E0E84E31B}" type="datetime1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925B8F-3319-42EB-8171-8749B5BF89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044-D8BA-43E9-A76D-FE8E12C7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84E-DF04-4A52-95E8-32DD183D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173-BFC4-4291-8FD5-A8A4D476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1C2-E207-4E06-BBA3-761D5CC0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CA66-3825-4202-982F-D9814C6F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2320-B1B9-4485-999D-87244D9A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F8D0-E81C-4FD0-ACB0-CD41CDF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9B7D-3E8E-48AD-B533-E0BC4158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904D-190F-47DA-ABC9-724DA63F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5A8-3786-423F-843B-95055C9B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9933-AF9D-4E00-817F-86C4425A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6E6-9FE7-4E5C-8A12-5926E1F9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D2A0-9EF9-49E8-A1FF-A0CB7F51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D1D0-F6E6-46ED-A7E2-781EE47C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F6BE-A006-49DD-BD70-2369B1F7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E7B7-72C4-4D89-B158-7BE4DEA9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B5D-94D1-43BD-9B83-F970D135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AF23-0531-4212-BA7B-F2CA0C3B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0307-0FB9-4281-8225-9AC99B30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6CF3-6938-4FD2-BEBA-3C142FF4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CA3A-0B62-4D6A-AB65-07153E0F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7248-3F87-4560-BA2D-5BDC0F91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540-7497-4A44-90E4-2FCF89C4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BF5A-B166-4789-A529-9DA68A33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E679-EAAC-443E-B8E9-39D74C9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9769-2AF4-47CC-A524-2B307E5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BAAA-9A15-410A-95A4-0B736D0B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FF7D-D954-4267-A7F6-8C408E29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9EE3-3F10-4A89-95EE-28A98321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5BF2-BEA3-401D-A8AD-D264A4C0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5DC-9EBD-4D9A-9AA3-7C0FA933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C02-7D1A-484E-BFC0-63C6B823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1A9-34E1-4AF1-B0B8-E2B1B31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4E4-8C31-48C9-9BA4-35F7470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7A5-67D9-4E1C-9383-79AB4D87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471-42A3-419B-8752-FE992B9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B55EC4-8314-4411-9C20-152093B0F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9F049D-B3D5-4AE9-AD02-BE4F46D4C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2F3429-CF25-444D-A740-77CFC2571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4869000"/>
            <a:ext cx="8424360" cy="16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How to Write an Essay</a:t>
            </a:r>
            <a:br>
              <a:rPr sz="6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t ready for the State Exam !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28920" y="1000080"/>
            <a:ext cx="507168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анилина                          Елена Александровн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ь высше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 СОШ  №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рода – курорта Железновод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360" y="274680"/>
            <a:ext cx="611928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труктура эсс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ains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ay”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6"/>
          <p:cNvPicPr/>
          <p:nvPr/>
        </p:nvPicPr>
        <p:blipFill>
          <a:blip r:embed="rId1"/>
          <a:stretch/>
        </p:blipFill>
        <p:spPr>
          <a:xfrm>
            <a:off x="395280" y="189000"/>
            <a:ext cx="606240" cy="86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Таблица 6"/>
          <p:cNvGraphicFramePr/>
          <p:nvPr/>
        </p:nvGraphicFramePr>
        <p:xfrm>
          <a:off x="285840" y="1143000"/>
          <a:ext cx="8500680" cy="5587920"/>
        </p:xfrm>
        <a:graphic>
          <a:graphicData uri="http://schemas.openxmlformats.org/drawingml/2006/table">
            <a:tbl>
              <a:tblPr/>
              <a:tblGrid>
                <a:gridCol w="1857240"/>
                <a:gridCol w="6643440"/>
              </a:tblGrid>
              <a:tr h="120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Поставить проблему, </a:t>
                      </a:r>
                      <a:r>
                        <a:rPr b="1" lang="ru-RU" sz="1000" spc="-1" strike="noStrike" u="sng">
                          <a:solidFill>
                            <a:schemeClr val="lt1"/>
                          </a:solidFill>
                          <a:uFillTx/>
                          <a:latin typeface="Arial"/>
                        </a:rPr>
                        <a:t>не выражая своего м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69873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a general rule…   It is popularly believed that…  It is often suggested… People often claim that… A lot of people think that…  Many people are in favour of… / are convinced that… We all know that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you imagine …?   Isn’t it amazing…?     Have you ever thought of…?        Isn’t it strange…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both advantages and disadvantages … Let’s begin with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3cd89"/>
                    </a:solidFill>
                  </a:tcPr>
                </a:tc>
              </a:tr>
              <a:tr h="280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in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"/>
                      </a:pPr>
                      <a:r>
                        <a:rPr b="1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ргументы в поддержку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го из существующих мнений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суждения с аргументами и примером +1 суждение с перечислением примеров (т.е. всего 3 высказывания-суждения; примеры можно привести из  жизненного опыта).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"/>
                      </a:pPr>
                      <a:r>
                        <a:rPr b="1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ргументы против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угого существующего мнения (не своего) - 2 суждения с аргументами и примеро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9873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troduce poin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/ most important / greatest advantage of… is that…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her advantage/ disadvantage of…   A further advantage/ disadvantage of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point of view in favour of / against…  The best/ worst thing about… i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st poin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first place…  First of all… To start with… To begin with… Secondly…  Thirdly…   Finally…               The last but not the least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more points to the same topic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more…  Furthermore …  Moreover…  In addition to this…  Besides…  Apart from thi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make contrasting poin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other  hand …  however…  in spite of the fact that … despite the fact that… while… nevertheless… even though… although… it can be argued that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troduce exampl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example… for instance… such as… in particular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3cd89"/>
                    </a:solidFill>
                  </a:tcPr>
                </a:tc>
              </a:tr>
              <a:tr h="157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cl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"/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е мнение-какую сторону Вы принимаете и почему.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"/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балансированное мнение - есть что-то хорошее, но есть и что-то плохо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9873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nclud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m up… all in all … on the whole… in conclusion … taking everything into account… as it was previously st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things considered , although there are some disadvantages…, I believe it i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 all, I believe that there are more advantages than disadvantage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3cd8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EFF7887B-EE07-4258-B715-45BEE5344583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360" y="274680"/>
            <a:ext cx="611928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труктура эсс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inio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a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7"/>
          <p:cNvPicPr/>
          <p:nvPr/>
        </p:nvPicPr>
        <p:blipFill>
          <a:blip r:embed="rId1"/>
          <a:stretch/>
        </p:blipFill>
        <p:spPr>
          <a:xfrm>
            <a:off x="395280" y="189000"/>
            <a:ext cx="649080" cy="86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Таблица 6"/>
          <p:cNvGraphicFramePr/>
          <p:nvPr/>
        </p:nvGraphicFramePr>
        <p:xfrm>
          <a:off x="214200" y="1214280"/>
          <a:ext cx="8357760" cy="4994640"/>
        </p:xfrm>
        <a:graphic>
          <a:graphicData uri="http://schemas.openxmlformats.org/drawingml/2006/table">
            <a:tbl>
              <a:tblPr/>
              <a:tblGrid>
                <a:gridCol w="1657800"/>
                <a:gridCol w="67003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Поставить проблему и </a:t>
                      </a:r>
                      <a:r>
                        <a:rPr b="1" lang="ru-RU" sz="1000" spc="-1" strike="noStrike" u="sng">
                          <a:solidFill>
                            <a:schemeClr val="lt1"/>
                          </a:solidFill>
                          <a:uFillTx/>
                          <a:latin typeface="Arial"/>
                        </a:rPr>
                        <a:t>выразить свою точку з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69873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the topic /proble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oo much emphasis placed on…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owadays, we are often told … Every day… There is no doubt that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ver the past few years,…   Are you among those who…?  Why has… become…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he British poet…once said that “….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here are various facts that support this opin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ress opin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-"/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my opinion…   I believe…  It seems to me…  The way I see it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3cd8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in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"/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суждения с аргументами и примером, </a:t>
                      </a:r>
                      <a:r>
                        <a:rPr b="1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подтверждающие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воё мн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"/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суждение с аргументом и примером по </a:t>
                      </a:r>
                      <a:r>
                        <a:rPr b="1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противоположному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нению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9873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st poin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first place…  First of all… To start with… To begin with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econdly…  Thirdly…   Finally…  Last but not least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more points to the same topic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more…  Furthermore …  Moreover…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n addition to this…  Besides…    Apart from thi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troduce  contrasting viewpoin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t is argued that… People argue that… Opponents of this view say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here are people who oppose… Contrary to what most believe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troduce exampl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-"/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example…  for instance…  such as…  in particular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3cd8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cl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твердить свое мнение с аргументами, но </a:t>
                      </a:r>
                      <a:r>
                        <a:rPr b="1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другими словам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чем во вступлен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9873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</a:pPr>
                      <a:r>
                        <a:rPr b="1" lang="en-US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o conclud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to sum up…  all in all …  all things considered…  on the whole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in conclusion … taking everything into account… / as was previously st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All in all, I still feel that the benefits of … outweigh the disadvantag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3cd8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E8ED9596-8F8A-4F2C-A5A0-E932922865D0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360" y="274680"/>
            <a:ext cx="611928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дготовительные тренировочные упражнен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38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rcise 1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ou have 40 minutes to do this task. Comment on the following statement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 is your opinion? Which of life will be more satisfying for future generations?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200-250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 письменного высказывания с элементами рассуждения, выполненного обучающимся и оцененного экспертом в 14 баллов (25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8"/>
          <p:cNvPicPr/>
          <p:nvPr/>
        </p:nvPicPr>
        <p:blipFill>
          <a:blip r:embed="rId1"/>
          <a:stretch/>
        </p:blipFill>
        <p:spPr>
          <a:xfrm>
            <a:off x="395280" y="189000"/>
            <a:ext cx="583920" cy="8632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6"/>
          <p:cNvSpPr/>
          <p:nvPr/>
        </p:nvSpPr>
        <p:spPr>
          <a:xfrm>
            <a:off x="500040" y="3143160"/>
            <a:ext cx="8000640" cy="3357360"/>
          </a:xfrm>
          <a:prstGeom prst="rect">
            <a:avLst/>
          </a:prstGeom>
          <a:solidFill>
            <a:schemeClr val="bg1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71320" y="1574280"/>
            <a:ext cx="7857720" cy="4557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My parents say the way they lived in the past was more secure. However, I believe that young people are given a lot more life opportunities nowa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500040" y="3161160"/>
            <a:ext cx="8000640" cy="328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 lot of people, especially of older age, claim that life in their youth was much quieter and they were m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ure of tomorrow than young people nowadays. But there are many things I  do appr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iate today. Amo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m is a great variety of opportunities we have in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irstly, the life has cardinally changed and at present young people, using Internet and travelling abroa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re more and more informed about the world and other cultures. Secondly, there is a wide choice of activities in which we can take part   now, starting from leisure clubs up to polit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al and volunteer program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her thing to mention is a different range of job vacancies offered to young people to earn their ow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oney. This gives us more independence from our family but, on the other hand, it teaches us to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responsible for decisions we ma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owever, our society now faces some serious problems such as high crime rate, drug, game and smo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ddictions. AIDS, poor environment, etc. They say the society was kinder, the tempo of life was slow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y were not afraid of unemployment. These are the reasons for the parents' concern about our future.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hough I share their worries, I would rather risk than have un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ventful, monotonous, predictable lif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o sum up, I believe, modem life gives more opportunities and challenges to the youth. There is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reedom, life is more exciting. That is why 1 hold an opinion that the way of life of today is more satisfy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9410291E-0ACE-46F9-BEB8-DCCA8764F981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85840"/>
            <a:ext cx="611928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Разберем данное эссе по плану: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31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1. Сначала определим тип эссе: "'For and Against" или "Opinion Essay", (определить по заданию, не читая сочинение).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2. Прочитайте про себя (бегло) данное эссе и ответьте на следующие вопросы</a:t>
            </a: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: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Соответствует ли эссе теме и ситуации общения?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Насколько полно раскрыта тема и отражены ли все  аспекты задания? 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Есть ли развёрнутая аргументация на задание? 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Правильный ли выбран стиль речи (формальный/ неформальный) ?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Соблюден ли объём высказывания? Есть ли деление на абзацы?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3. Прочтите только ВСТУПЛЕНИЕ</a:t>
            </a: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Есть ли постановка проблемы и своя точка зрения? 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Перефразирована ли проблема (не списана ли с задания, что бывает очень часто)? Наверное, не очень хорошо, что автор начинает предложение с But...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4. Прочтите первый абзац ОСНОВНОЙ ЧАСТИ сочинения. Согласно требованиям у нас должно быть 3 суждения с аргументами и примером. 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Высказано ли мнение автора по проблеме и аргументировано ли оно?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Есть ли связующие слова (слова, связывающие аргументы)?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5. Прочтите второй абзац ОСНОВНОЙ ЧАСТИ сочинения. Согласно требованиям (см. выше) у нас должно быть 1 суждение с аргументом и примером по противоположному мнению.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Приведена ли противоположная точка зрения с аргументами? 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Есть ли объяснение, почему вы с ней не согласны с аргументацией?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6. Прочтите ЗАКЛЮЧЕНИЕ.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Есть ли своя точка зрения и совпадает ли она с точкой зрения автора, представленная во ВСТУПЛЕНИИ? (Были случаи, когда автор во Вступлении и в Заключении отстаивает разную точку зрения, выдавая её за своё мнение). Так как высказано много суждений с аргументами «за», то достаточно только одного суждения, но другими словами, а не переписать то же самое.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7. Насколько разнообразен словарный запас и соответствует ли он высокому уровню. Есть ли ошибки в тексте?</a:t>
            </a: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9"/>
          <p:cNvPicPr/>
          <p:nvPr/>
        </p:nvPicPr>
        <p:blipFill>
          <a:blip r:embed="rId1"/>
          <a:stretch/>
        </p:blipFill>
        <p:spPr>
          <a:xfrm>
            <a:off x="468360" y="189000"/>
            <a:ext cx="6490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274680"/>
            <a:ext cx="611928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дготовительные тренировочные упражнен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38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ercise 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or the following sentences, choose the most appropriate word or expression in bold. There is an example at the beginning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0)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 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Despit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/ Althou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changeable weather, Britain is a very pleasant country to visit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pite/ Althou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t rains a lot, it never gets very cold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Learning English in an English-speaking country can be very rewarding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urthermore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verthel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t can be very difficult to adjust to a new way of life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English is spoken as a first language in a lot of countr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urthemore / Neverthel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t is also the language of international communication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London is a very busy city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ereas / howe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wns like Oxford and Cambridge are slightly more relaxed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The pressures of living in a big city can be very demand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ereas / Howe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ity life does have its rewards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 my opinion / According to 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more languages you speak, the better your future prospects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 believe that / consi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vel makes you more aware of the world around you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Many peopl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 / believe t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internet to be the most important invention since the wheel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AutoNum type="arabicPeriod" startAt="9"/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n one side / h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velopments in information technology are changing our lives. On the other side / hand, they are moving too quickly for us to keep up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428400" cy="791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0"/>
          <p:cNvPicPr/>
          <p:nvPr/>
        </p:nvPicPr>
        <p:blipFill>
          <a:blip r:embed="rId2"/>
          <a:stretch/>
        </p:blipFill>
        <p:spPr>
          <a:xfrm>
            <a:off x="755640" y="260280"/>
            <a:ext cx="579240" cy="8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647172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дготовительные тренировочные упражнен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240" cy="4911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ercise 3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the composition below. Which paragraphs have the following function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1 to make a state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2 to justify the statement using examp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3 to sum up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142920" y="214200"/>
            <a:ext cx="428400" cy="79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1"/>
          <p:cNvPicPr/>
          <p:nvPr/>
        </p:nvPicPr>
        <p:blipFill>
          <a:blip r:embed="rId2"/>
          <a:stretch/>
        </p:blipFill>
        <p:spPr>
          <a:xfrm>
            <a:off x="571320" y="214200"/>
            <a:ext cx="428400" cy="7916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6"/>
          <p:cNvSpPr/>
          <p:nvPr/>
        </p:nvSpPr>
        <p:spPr>
          <a:xfrm>
            <a:off x="428760" y="2214720"/>
            <a:ext cx="8286480" cy="4357440"/>
          </a:xfrm>
          <a:prstGeom prst="rect">
            <a:avLst/>
          </a:prstGeom>
          <a:solidFill>
            <a:schemeClr val="bg1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most important school subject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wadays, we have to study a lot of subjects at school. Although most subjects can be interesting, I think the most important subjects are those which are useful, that is, those which help you to find a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my opinion, we shouldn’t have to study subjects which are not useful, such as Latin. Latin is a language that nobody speaks, and is therefore not likely to be useful in many j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lish, on the other hand, ought to be taught because we might find it useful for writing letters and applications. We might also need English to express ourselves in interviews for a job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ormation technology is another important subject. It should be taught because everyone will need to use computers in the future, otherwise they won’t be able to get a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conclusion, subjects such as classical languages might be interesting but they aren’t important in terms of getting a job. Personally speaking, I think subjects should be useful, but they should be interesting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95CDAFA-DEFB-400D-837F-D1C857ED50B5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85920" y="274680"/>
            <a:ext cx="64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дготовительные тренировочные упражнен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Содержимое 4" descr="3).jpg"/>
          <p:cNvPicPr/>
          <p:nvPr/>
        </p:nvPicPr>
        <p:blipFill>
          <a:blip r:embed="rId1"/>
          <a:srcRect l="0" t="29283" r="0" b="0"/>
          <a:stretch/>
        </p:blipFill>
        <p:spPr>
          <a:xfrm>
            <a:off x="357120" y="2571840"/>
            <a:ext cx="3509640" cy="2070720"/>
          </a:xfrm>
          <a:prstGeom prst="rect">
            <a:avLst/>
          </a:prstGeom>
          <a:ln w="9525">
            <a:noFill/>
          </a:ln>
        </p:spPr>
      </p:pic>
      <p:pic>
        <p:nvPicPr>
          <p:cNvPr id="178" name="Рисунок 5" descr="2).jpg"/>
          <p:cNvPicPr/>
          <p:nvPr/>
        </p:nvPicPr>
        <p:blipFill>
          <a:blip r:embed="rId2"/>
          <a:srcRect l="0" t="13182" r="0" b="50092"/>
          <a:stretch/>
        </p:blipFill>
        <p:spPr>
          <a:xfrm>
            <a:off x="5170680" y="1843560"/>
            <a:ext cx="3258360" cy="1942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1"/>
          <p:cNvPicPr/>
          <p:nvPr/>
        </p:nvPicPr>
        <p:blipFill>
          <a:blip r:embed="rId3"/>
          <a:stretch/>
        </p:blipFill>
        <p:spPr>
          <a:xfrm>
            <a:off x="142920" y="214200"/>
            <a:ext cx="428400" cy="791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2"/>
          <p:cNvPicPr/>
          <p:nvPr/>
        </p:nvPicPr>
        <p:blipFill>
          <a:blip r:embed="rId4"/>
          <a:stretch/>
        </p:blipFill>
        <p:spPr>
          <a:xfrm>
            <a:off x="539640" y="260280"/>
            <a:ext cx="542520" cy="7966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8"/>
          <p:cNvSpPr/>
          <p:nvPr/>
        </p:nvSpPr>
        <p:spPr>
          <a:xfrm>
            <a:off x="214200" y="1714320"/>
            <a:ext cx="421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tch the paragraph contents on the right with each paragraph 1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5018400" y="1214280"/>
            <a:ext cx="361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rcle two sentences you m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e to begin your 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10" descr="2).jpg"/>
          <p:cNvPicPr/>
          <p:nvPr/>
        </p:nvPicPr>
        <p:blipFill>
          <a:blip r:embed="rId5"/>
          <a:srcRect l="0" t="65911" r="0" b="0"/>
          <a:stretch/>
        </p:blipFill>
        <p:spPr>
          <a:xfrm>
            <a:off x="5259600" y="4461120"/>
            <a:ext cx="3169800" cy="17535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2"/>
          <p:cNvSpPr/>
          <p:nvPr/>
        </p:nvSpPr>
        <p:spPr>
          <a:xfrm>
            <a:off x="5214960" y="3786120"/>
            <a:ext cx="3571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rcle two sentences you might use to end your 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4"/>
          <p:cNvSpPr/>
          <p:nvPr/>
        </p:nvSpPr>
        <p:spPr>
          <a:xfrm>
            <a:off x="294120" y="1285920"/>
            <a:ext cx="1308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rci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657180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онный вариант КИМ ЕГЭ 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240" cy="4911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have 60 minutes to do this task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 on the following statement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is your opinion?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–250 words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the following plan: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 an introduction (state the problem)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ress your personal opinion and give reasons for it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ve arguments for the other point of view and explain why you don’t agre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it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w a conclusion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1"/>
          <p:cNvPicPr/>
          <p:nvPr/>
        </p:nvPicPr>
        <p:blipFill>
          <a:blip r:embed="rId1"/>
          <a:stretch/>
        </p:blipFill>
        <p:spPr>
          <a:xfrm>
            <a:off x="142920" y="214200"/>
            <a:ext cx="428400" cy="791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500040" y="1928880"/>
            <a:ext cx="7929360" cy="571320"/>
          </a:xfrm>
          <a:prstGeom prst="rect">
            <a:avLst/>
          </a:prstGeom>
          <a:solidFill>
            <a:schemeClr val="bg1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 people think that life-long friendship exists only in books and fil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thers believe that it exists in real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3"/>
          <p:cNvPicPr/>
          <p:nvPr/>
        </p:nvPicPr>
        <p:blipFill>
          <a:blip r:embed="rId2"/>
          <a:stretch/>
        </p:blipFill>
        <p:spPr>
          <a:xfrm>
            <a:off x="493560" y="260280"/>
            <a:ext cx="54900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66434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глийский язык. Полный экспресс – репетитор. «Чтение. Грамматика и лексика. Говорение.» Е.С. Музланова, Е.И. Кисунько (Полный комплект пособий для подготовки к ЕГЭ)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ГЭ. Английский язык. Тематические тестовые задания. Россия и мир/Е.Н.Соловова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Parson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– М.:Центр изучения английского языка Елены Солововой, 2013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монстрационный вариант КИМ ЕГЭ по английскому языку 2013года, ФИПИ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иреева Т.В. «Стратегия и тактика подготовки обучающихся к успешной сдаче   экзамена по английскому языку, раздел Письмо»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цификация контрольных измерительных материалов для проведения в 2013 году единого государственного экзамена по ИНОСТРАННЫМ ЯЗЫКАМ, ФИПИ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tice Tests for the Russian State Exam (E.Klekovkina…) Macmillan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ГЭ 2009. Английский, немецкий, французский языки. Федеральный банк экзаменационных материалов / Авт.-сост. М.В. Вербицкая, Н.М. Епихина и др. –М.: Эксмо, 2008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1"/>
          <p:cNvPicPr/>
          <p:nvPr/>
        </p:nvPicPr>
        <p:blipFill>
          <a:blip r:embed="rId1"/>
          <a:stretch/>
        </p:blipFill>
        <p:spPr>
          <a:xfrm>
            <a:off x="142920" y="214200"/>
            <a:ext cx="428400" cy="79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4"/>
          <p:cNvPicPr/>
          <p:nvPr/>
        </p:nvPicPr>
        <p:blipFill>
          <a:blip r:embed="rId2"/>
          <a:stretch/>
        </p:blipFill>
        <p:spPr>
          <a:xfrm>
            <a:off x="500040" y="214200"/>
            <a:ext cx="63612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2" descr="Гитис.jpg"/>
          <p:cNvPicPr/>
          <p:nvPr/>
        </p:nvPicPr>
        <p:blipFill>
          <a:blip r:embed="rId1"/>
          <a:stretch/>
        </p:blipFill>
        <p:spPr>
          <a:xfrm>
            <a:off x="6031080" y="333360"/>
            <a:ext cx="2723760" cy="2047680"/>
          </a:xfrm>
          <a:prstGeom prst="rect">
            <a:avLst/>
          </a:prstGeom>
          <a:ln w="9525">
            <a:noFill/>
          </a:ln>
        </p:spPr>
      </p:pic>
      <p:sp>
        <p:nvSpPr>
          <p:cNvPr id="196" name="WordArt 3"/>
          <p:cNvSpPr txBox="1"/>
          <p:nvPr/>
        </p:nvSpPr>
        <p:spPr>
          <a:xfrm>
            <a:off x="7631280" y="1704960"/>
            <a:ext cx="1034640" cy="537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cc"/>
                </a:solidFill>
                <a:latin typeface="Arial Black"/>
              </a:rPr>
              <a:t>ГИТИС</a:t>
            </a:r>
            <a:endParaRPr b="0" lang="en-US" sz="3600" spc="-1" strike="noStrike">
              <a:ln w="0">
                <a:noFill/>
              </a:ln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7" name="Рисунок 8" descr="МАИ 1.gif"/>
          <p:cNvPicPr/>
          <p:nvPr/>
        </p:nvPicPr>
        <p:blipFill>
          <a:blip r:embed="rId2"/>
          <a:stretch/>
        </p:blipFill>
        <p:spPr>
          <a:xfrm>
            <a:off x="468360" y="333360"/>
            <a:ext cx="1742760" cy="1688760"/>
          </a:xfrm>
          <a:prstGeom prst="rect">
            <a:avLst/>
          </a:prstGeom>
          <a:ln w="9525">
            <a:noFill/>
          </a:ln>
        </p:spPr>
      </p:pic>
      <p:pic>
        <p:nvPicPr>
          <p:cNvPr id="198" name="Рисунок 10" descr="Российский гос. мед. университет Москва.gif"/>
          <p:cNvPicPr/>
          <p:nvPr/>
        </p:nvPicPr>
        <p:blipFill>
          <a:blip r:embed="rId3"/>
          <a:stretch/>
        </p:blipFill>
        <p:spPr>
          <a:xfrm>
            <a:off x="2906640" y="257040"/>
            <a:ext cx="2539800" cy="1985760"/>
          </a:xfrm>
          <a:prstGeom prst="rect">
            <a:avLst/>
          </a:prstGeom>
          <a:ln w="9525">
            <a:noFill/>
          </a:ln>
        </p:spPr>
      </p:pic>
      <p:pic>
        <p:nvPicPr>
          <p:cNvPr id="199" name="Рисунок 11" descr="СПбГУ.jpg"/>
          <p:cNvPicPr/>
          <p:nvPr/>
        </p:nvPicPr>
        <p:blipFill>
          <a:blip r:embed="rId4"/>
          <a:stretch/>
        </p:blipFill>
        <p:spPr>
          <a:xfrm>
            <a:off x="5345280" y="3457440"/>
            <a:ext cx="3471480" cy="2484000"/>
          </a:xfrm>
          <a:prstGeom prst="rect">
            <a:avLst/>
          </a:prstGeom>
          <a:ln w="9525">
            <a:noFill/>
          </a:ln>
        </p:spPr>
      </p:pic>
      <p:pic>
        <p:nvPicPr>
          <p:cNvPr id="200" name="Рисунок 15" descr="Юфу ростовb13586[1].jpg"/>
          <p:cNvPicPr/>
          <p:nvPr/>
        </p:nvPicPr>
        <p:blipFill>
          <a:blip r:embed="rId5"/>
          <a:stretch/>
        </p:blipFill>
        <p:spPr>
          <a:xfrm>
            <a:off x="620640" y="3533760"/>
            <a:ext cx="3041280" cy="2285640"/>
          </a:xfrm>
          <a:prstGeom prst="rect">
            <a:avLst/>
          </a:prstGeom>
          <a:ln w="9525">
            <a:noFill/>
          </a:ln>
        </p:spPr>
      </p:pic>
      <p:sp>
        <p:nvSpPr>
          <p:cNvPr id="201" name="TextBox 9"/>
          <p:cNvSpPr/>
          <p:nvPr/>
        </p:nvSpPr>
        <p:spPr>
          <a:xfrm>
            <a:off x="5345280" y="5972040"/>
            <a:ext cx="35049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кт-Петербургский государственны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316080" y="5896080"/>
            <a:ext cx="36572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федеральны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1839960" y="2619360"/>
            <a:ext cx="5562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аши люди – везд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P1010001.JPG"/>
          <p:cNvPicPr/>
          <p:nvPr/>
        </p:nvPicPr>
        <p:blipFill>
          <a:blip r:embed="rId1"/>
          <a:srcRect l="2076" t="1845" r="7888" b="12916"/>
          <a:stretch/>
        </p:blipFill>
        <p:spPr>
          <a:xfrm>
            <a:off x="0" y="0"/>
            <a:ext cx="9685080" cy="6876720"/>
          </a:xfrm>
          <a:prstGeom prst="rect">
            <a:avLst/>
          </a:prstGeom>
          <a:ln w="9525">
            <a:noFill/>
          </a:ln>
        </p:spPr>
      </p:pic>
      <p:pic>
        <p:nvPicPr>
          <p:cNvPr id="132" name="Рисунок 1" descr="P1010001.JPG"/>
          <p:cNvPicPr/>
          <p:nvPr/>
        </p:nvPicPr>
        <p:blipFill>
          <a:blip r:embed="rId2"/>
          <a:srcRect l="2076" t="1845" r="7888" b="12916"/>
          <a:stretch/>
        </p:blipFill>
        <p:spPr>
          <a:xfrm>
            <a:off x="152280" y="152280"/>
            <a:ext cx="9685080" cy="687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F:\Институты\С.-П. военно-морской институт.jpg"/>
          <p:cNvPicPr/>
          <p:nvPr/>
        </p:nvPicPr>
        <p:blipFill>
          <a:blip r:embed="rId1"/>
          <a:stretch/>
        </p:blipFill>
        <p:spPr>
          <a:xfrm>
            <a:off x="6143760" y="285840"/>
            <a:ext cx="2666520" cy="200448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5" descr="F:\Институты\СГУ, Ставрополь.jpg"/>
          <p:cNvPicPr/>
          <p:nvPr/>
        </p:nvPicPr>
        <p:blipFill>
          <a:blip r:embed="rId2"/>
          <a:stretch/>
        </p:blipFill>
        <p:spPr>
          <a:xfrm>
            <a:off x="214200" y="428760"/>
            <a:ext cx="3285720" cy="2207520"/>
          </a:xfrm>
          <a:prstGeom prst="rect">
            <a:avLst/>
          </a:prstGeom>
          <a:ln w="9525">
            <a:noFill/>
          </a:ln>
        </p:spPr>
      </p:pic>
      <p:sp>
        <p:nvSpPr>
          <p:cNvPr id="206" name="TextBox 6"/>
          <p:cNvSpPr/>
          <p:nvPr/>
        </p:nvSpPr>
        <p:spPr>
          <a:xfrm>
            <a:off x="285840" y="2643120"/>
            <a:ext cx="335232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еверо-Кавказский федеральный уни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F:\Институты\Волгоградский гос. медицинский университет.jpg"/>
          <p:cNvPicPr/>
          <p:nvPr/>
        </p:nvPicPr>
        <p:blipFill>
          <a:blip r:embed="rId3"/>
          <a:stretch/>
        </p:blipFill>
        <p:spPr>
          <a:xfrm>
            <a:off x="5000760" y="3643200"/>
            <a:ext cx="2857320" cy="1828440"/>
          </a:xfrm>
          <a:prstGeom prst="rect">
            <a:avLst/>
          </a:prstGeom>
          <a:ln w="9525">
            <a:noFill/>
          </a:ln>
        </p:spPr>
      </p:pic>
      <p:sp>
        <p:nvSpPr>
          <p:cNvPr id="208" name="TextBox 8"/>
          <p:cNvSpPr/>
          <p:nvPr/>
        </p:nvSpPr>
        <p:spPr>
          <a:xfrm>
            <a:off x="5000760" y="5410080"/>
            <a:ext cx="36856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ский государственны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8" descr="pjatigorsk-univer_noext.jpg"/>
          <p:cNvPicPr/>
          <p:nvPr/>
        </p:nvPicPr>
        <p:blipFill>
          <a:blip r:embed="rId4"/>
          <a:stretch/>
        </p:blipFill>
        <p:spPr>
          <a:xfrm>
            <a:off x="285840" y="3571920"/>
            <a:ext cx="3295800" cy="22143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9"/>
          <p:cNvSpPr/>
          <p:nvPr/>
        </p:nvSpPr>
        <p:spPr>
          <a:xfrm>
            <a:off x="357120" y="6000840"/>
            <a:ext cx="364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ятигорский государственный лингвистический уни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5500800" y="2504160"/>
            <a:ext cx="3500280" cy="73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У ИТМО  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анкт- Петербургский исследовательск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циональный    институт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9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ий балл по английскому языку                 в в  МКОУ СОШ № 10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Содержимое 7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Таблица 5"/>
          <p:cNvGraphicFramePr/>
          <p:nvPr/>
        </p:nvGraphicFramePr>
        <p:xfrm>
          <a:off x="142920" y="1214280"/>
          <a:ext cx="8786520" cy="5143320"/>
        </p:xfrm>
        <a:graphic>
          <a:graphicData uri="http://schemas.openxmlformats.org/drawingml/2006/table">
            <a:tbl>
              <a:tblPr/>
              <a:tblGrid>
                <a:gridCol w="916560"/>
                <a:gridCol w="5571000"/>
                <a:gridCol w="2298600"/>
              </a:tblGrid>
              <a:tr h="9014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Критер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% выпол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116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К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Решени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коммуникативной задач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3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63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К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рганизация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2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63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К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Лекс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0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63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К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Грам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4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116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К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3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рфография и пунктуа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6"/>
          <p:cNvSpPr/>
          <p:nvPr/>
        </p:nvSpPr>
        <p:spPr>
          <a:xfrm>
            <a:off x="753480" y="500040"/>
            <a:ext cx="703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ение задания С2 по критер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42920"/>
            <a:ext cx="611928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600"/>
            </a:br>
            <a:r>
              <a:rPr b="1" lang="ru-RU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Раздел 4 «Письмо». Задание С</a:t>
            </a:r>
            <a:r>
              <a:rPr b="1" lang="en-US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Essay</a:t>
            </a:r>
            <a:br>
              <a:rPr sz="1600"/>
            </a:br>
            <a:r>
              <a:rPr b="1" lang="ru-RU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«Написание развернутого высказывания с элементами рассуждения на заданную тему» (Высокий уровень)</a:t>
            </a:r>
            <a:br>
              <a:rPr sz="1600"/>
            </a:br>
            <a:r>
              <a:rPr b="1" lang="ru-RU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14</a:t>
            </a:r>
            <a:r>
              <a:rPr b="1" lang="ru-RU" sz="1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 баллов)</a:t>
            </a:r>
            <a:br>
              <a:rPr sz="1600"/>
            </a:b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2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Цель задания</a:t>
            </a: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: проверить владение стратегиями письменной речи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Рекомендуемое время </a:t>
            </a: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на выполнение данного раздела – </a:t>
            </a:r>
            <a:r>
              <a:rPr b="1" lang="ru-RU" sz="1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</a:rPr>
              <a:t>40 минут</a:t>
            </a: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В задании приводится высказывание проблемного характера. Необходимо высказать свое отношение к предложенной в задании точке зрения и обосновать его, в том числе с предвосхищением возможных контраргументов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Требуемый объем текста для данного задания – </a:t>
            </a:r>
            <a:r>
              <a:rPr b="1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200-250 слов</a:t>
            </a: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Письменное высказывание с элементами рассуждения оценивается по пяти критериям: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точность и полнота выполнения поставленной коммуникативной задачи (содержание) (максимально – 3 балла)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труктурная организация текста (максимально – 3 балла)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лексическое разнообразие и лексическая грамотность (максимально – 3 балла)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грамматическая грамотность (максимально – 3 балла)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орфография и пунктуация (максимально – 2 балла)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"/>
          <p:cNvPicPr/>
          <p:nvPr/>
        </p:nvPicPr>
        <p:blipFill>
          <a:blip r:embed="rId1"/>
          <a:stretch/>
        </p:blipFill>
        <p:spPr>
          <a:xfrm>
            <a:off x="611280" y="260280"/>
            <a:ext cx="42840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274680"/>
            <a:ext cx="611928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рядок подсчета слов в заданиях раздела «Письмо»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23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оценивании заданий раздела «Письмо» (С1–С2) следует учитывать такой параметр, как объем письменного текста, выраженный в количестве слов. Требуемый объем для развернутого письменного высказывания С2 – 200–250 слов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пустимое отклонение от заданного объема составляет 10%. Если в выполненном задании С2 менее 180 слов, то задание проверке не подлежит и оценивается в 0 баллов. При превышении объема более, чем на 10%, т. е. если в выполненном задании С2 более 275 слов, проверке подлежит только та часть работы, которая соответствует требуемому объему. Таким образом, при проверке задания С2 отсчитываются от начала работы 250 слов и оценивается только эта часть работы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читаются все слова, начиная с первого слова по последнее, включая вспомогательные глаголы, предлоги, артикли, частицы. Адрес, дата, подпись также подлежат подсчету. При этом: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тяженные (краткие) формы </a:t>
            </a:r>
            <a:r>
              <a:rPr b="0" lang="en-US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can’t, didn’t, I’m </a:t>
            </a: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и т.п. считаются как одно слово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числительные, выраженные цифрами 1; 25; 2011; 176541 и т.п. считаются как одно слово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числительные, выраженные словами, считаются как слова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ложные слова, такие как </a:t>
            </a:r>
            <a:r>
              <a:rPr b="0" lang="en-US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good-looking, well-bread, twenty-five </a:t>
            </a: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считаются как одно слово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1a1a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окращения, например, </a:t>
            </a:r>
            <a:r>
              <a:rPr b="0" lang="en-US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USA, e-mail, TV, CD-rom</a:t>
            </a:r>
            <a:r>
              <a:rPr b="0" lang="ru-RU" sz="1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считаются как одно слово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2"/>
          <p:cNvPicPr/>
          <p:nvPr/>
        </p:nvPicPr>
        <p:blipFill>
          <a:blip r:embed="rId1"/>
          <a:stretch/>
        </p:blipFill>
        <p:spPr>
          <a:xfrm>
            <a:off x="539640" y="260280"/>
            <a:ext cx="54252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74680"/>
            <a:ext cx="611928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и формат написания эсс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23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ссе (essay) – сочинение, обычно является индивидуальной интерпретацией фактов, выражением авторского мнения по какой-либо теме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им  формат экзамена по английскому языку, который  предлагает обучающимся  написать дискуссионное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ursiv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эссе двух видов: 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 и 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и два типа сочинения строятся по-разному и инструкции к заданию содержат план, который подсказывает правильную композицию. Общим является то, что необходимо найти веские аргументы и убедительно и логично их изложить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ссе «за и против»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gumentativ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- это особый вид эссе, в котором представлена не только информация по данному вопросу, но и аргументация «за» (в подтверждение/доказательство данного вопроса) и аргументация «против» (идеи противоположной точки зрения).Сложность написания данного вида эссе заключается в том, чтобы убедить противную сторону в объективности ваших взглядов или точки зрения на ту или иную проблему. Равное внимание следует уделять как положительным, так и отрицательным аргументам, рассматривая их объективно и по – возможности детально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ссе «с элементами рассуждения»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- это особый вид эссе, в котором представлено своё мнение по данной проблеме (с обоснованием и примерами), а также противоположная точка зрения с объяснением, почему вы с ней не согласны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3"/>
          <p:cNvPicPr/>
          <p:nvPr/>
        </p:nvPicPr>
        <p:blipFill>
          <a:blip r:embed="rId1"/>
          <a:stretch/>
        </p:blipFill>
        <p:spPr>
          <a:xfrm>
            <a:off x="493560" y="260280"/>
            <a:ext cx="54900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360" y="274680"/>
            <a:ext cx="611928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Советы по эффективному выполнению задан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45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читайте внимательно задание, извлеките из него максимум информации, определите коммуникативную задачу. Проверяется 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</a:rPr>
              <a:t>высокий уровень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владения иностранным языком, а это значит, что проверяют по 5-ти критериям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”- постарайтесь чётко представить преимущества и недостатки предлагаемой проблемы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”- чётко представьте ваше отношение к обсуждаемой проблеме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      Определите тип эссе,  это сделать несложно: так как есть подсказки в задании: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r and Against Essay” -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advantages and disadvantages; …pros and cons; …good and bad things; …are you in favour or against?;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pinion Essay” –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what do you think? ;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..do you agree or disagree?;  …give your opini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ните, что дискуссионное сочинение должно быть логичным, убедительно подводящим читателя к выводам, излагаемым в заключении. Всегда подкрепляйте приводимые доводы примерами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AutoNum type="arabicPeriod" startAt="3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ерите соответствующий стиль  (формальный стиль, не допускающий сокращённых форм, повседневных фраз, восклицаний и т.п.) и вспомните формальные ограничения времени (40 минут) и объёма (200-250 слов)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      Составьте план эссе и стройте своё высказывание в соответствии с планом. В плане обозначьте подходящие идеи, примеры, аргументы, фразы и т.д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”-составьте краткий список преимуществ и недостатков и выделите главные из них; подберите фразы и выражения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”-составьте список из 2-3 пунктов, по которым вы хотели бы высказаться при обсуждении темы, они лягут в основу вашего сочинения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"/>
          <p:cNvPicPr/>
          <p:nvPr/>
        </p:nvPicPr>
        <p:blipFill>
          <a:blip r:embed="rId1"/>
          <a:stretch/>
        </p:blipFill>
        <p:spPr>
          <a:xfrm>
            <a:off x="395280" y="189000"/>
            <a:ext cx="63612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274680"/>
            <a:ext cx="611928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Советы по эффективному выполнению задан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23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. Вспомните формат эссе и особенности лексического наполнения  Вступления, Основной части и Заключения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”-обратите внимание, что 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во Вступлении </a:t>
            </a: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не пишем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 своё мнение , т.е. нельзя употреблять фразы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think</a:t>
            </a:r>
            <a:r>
              <a:rPr b="0" i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…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believe</a:t>
            </a:r>
            <a:r>
              <a:rPr b="0" i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…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i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my</a:t>
            </a:r>
            <a:r>
              <a:rPr b="0" i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opinion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…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- эти фразы возможны только в Заключении. В заключительном параграфе подводится логический итог сказанному, 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</a:rPr>
              <a:t>какие-то новые аспекты и доводы не приводятся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ssay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”- обратите внимание, что ваше мнение отражается как во Вступлении, так и в Заключении, однако выражено другими словами. Ваше мнение должно совпадать в первом параграфе и в заключительном параграфе, а не противоречить друг другу. В Заключении ваше мнение подводит итог сказанному, 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</a:rPr>
              <a:t>какие-то новые аспекты и доводы не приводятся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. Не забывайте  делить текст на абзацы. Каждый параграф вводит новую идею или аспект в соответствии с планом. Каждый параграф начинается с ключевого предложения, отражающего его суть. Параграф не может состоять из 1 предложения. Обычно Вступление и Заключение имеет одинаковый объём и включает 2-3 предложения. 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. Старайтесь использовать не только простые предложения, но и сложноподчинённые, используя средства логической связи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. Старайтесь правильно употреблять временные формы глагола, используйте разнообразные грамматические структуры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. Внимательно проверьте  работу, обращая внимание на следующие моменты: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вильно ли сформулирована проблема в начале высказывания, не повторяя формулировку задания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блюдается ли формат  и стиль высказывания;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огично ли текст делится на абзацы;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вильно ли использованы средства связи внутри предложений, между  предложениями, между абзацами;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верьте правильность написания каждого слова.</a:t>
            </a:r>
            <a:endParaRPr b="0" lang="ru-RU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5"/>
          <p:cNvPicPr/>
          <p:nvPr/>
        </p:nvPicPr>
        <p:blipFill>
          <a:blip r:embed="rId1"/>
          <a:stretch/>
        </p:blipFill>
        <p:spPr>
          <a:xfrm>
            <a:off x="468360" y="189000"/>
            <a:ext cx="599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чинение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чинение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чинение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Сочинение</Template>
  <TotalTime>711</TotalTime>
  <Application>LibreOffice/7.4.7.2$Linux_X86_64 LibreOffice_project/40$Build-2</Application>
  <AppVersion>15.0000</AppVersion>
  <Words>3468</Words>
  <Paragraphs>28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6:17:18Z</dcterms:created>
  <dc:creator>1</dc:creator>
  <dc:description/>
  <dc:language>en-US</dc:language>
  <cp:lastModifiedBy>Учитель</cp:lastModifiedBy>
  <dcterms:modified xsi:type="dcterms:W3CDTF">2013-11-05T17:41:41Z</dcterms:modified>
  <cp:revision>74</cp:revision>
  <dc:subject/>
  <dc:title>How to write an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Экран (4:3)</vt:lpwstr>
  </property>
  <property fmtid="{D5CDD505-2E9C-101B-9397-08002B2CF9AE}" pid="4" name="Slides">
    <vt:r8>20</vt:r8>
  </property>
</Properties>
</file>